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6866-8D04-40B7-970C-45D455F9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51A4-1006-4CE1-8D26-4AD13A5B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6DC9-58B8-43A5-A863-8C83E87E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CA1C-6D88-44CD-9684-32A9EDB8B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2D3F-8E97-4E21-A6BA-DB0547EB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8090-BD1E-4F5B-924E-B9AE13AD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B1F4-8EC1-4323-840E-DCF9FE8F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62B-3C87-4AE2-865E-CEEF9DD8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0C20-B5F9-45FA-BFF5-AF7FA166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A7E7-BD1E-48BB-A9B3-48A1AAA7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8AA4-8898-48DA-A976-475EA967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63D7-DB2A-4A8E-9D19-284DC2DC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0364-B6F5-4E76-97E3-A39AA31FD1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utin.viperson.ru/data/200812/putin.vv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Внешняя политика РФ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овая Концепция.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7120" y="2214720"/>
            <a:ext cx="81439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ели и задач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ить содержание и особенности этапов формирования внешнеполитической доктри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елить причины принятия новой Концеп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характеризовать принципы и установки современной Концеп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ывать чувство уважения к своей стра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вая редакция Концепции внешней политики РФ утверждена в июне 2000 года Президентом РФ В.В.Путин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http://putin.viperson.ru/data/200812/putin.vv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428840"/>
            <a:ext cx="46432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идент Р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нешнеполитические полномоч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ставляет РФ в международных отношения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яет основные направления внешней поли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уществляет руководство внешней политикой Р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дет переговоры и подписывает международные договоры Р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Конституция РФ, статья 8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C:\Documents and Settings\я\Мои документы\КенджаеваЛП\Открытый урок 2012\konstitucia0007.jpg"/>
          <p:cNvPicPr/>
          <p:nvPr/>
        </p:nvPicPr>
        <p:blipFill>
          <a:blip r:embed="rId1"/>
          <a:stretch/>
        </p:blipFill>
        <p:spPr>
          <a:xfrm>
            <a:off x="4929120" y="1643040"/>
            <a:ext cx="40719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раллельно существуют две сферы внешнеполитических интересов Росс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599840"/>
            <a:ext cx="2857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льнее зарубежь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ША и ведущие страны Запа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лижнее зарубежь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траны СН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C:\Documents and Settings\я\Мои документы\КенджаеваЛП\Открытый урок 2012\World-pol.jpg"/>
          <p:cNvPicPr/>
          <p:nvPr/>
        </p:nvPicPr>
        <p:blipFill>
          <a:blip r:embed="rId1"/>
          <a:stretch/>
        </p:blipFill>
        <p:spPr>
          <a:xfrm>
            <a:off x="3000240" y="1571760"/>
            <a:ext cx="61437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льнее зарубежье и страны СН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итика России по отношению к странам дальнего зарубежья определялась несколькими фактора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яжелым социально-политическим положением в стра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емлением построить модель демократического общества по американскому и западноевропейскому образц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товность правительства США и крупнейших европейских стран оказать поддержку демократическому правительств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втором этапе – стремление восстановить утраченные после радикальных демократических преобразований и распада СССР внешнеполитические позиции Росс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авным направлением сотрудничества России со странами СНГ стало заключение двусторонних соглаш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ираясь на текст учебника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§ 75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заполните таблицу: «Основные направления внешней политики России в современных условиях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00040" y="2071800"/>
          <a:ext cx="8086680" cy="4214880"/>
        </p:xfrm>
        <a:graphic>
          <a:graphicData uri="http://schemas.openxmlformats.org/drawingml/2006/table">
            <a:tbl>
              <a:tblPr/>
              <a:tblGrid>
                <a:gridCol w="2695680"/>
                <a:gridCol w="2695320"/>
                <a:gridCol w="2695680"/>
              </a:tblGrid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правления внешнеполитическ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кретные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зультаты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1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новные понят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2884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Концепция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– понятие, соображения, выводы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Доктрина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– научная или философская теория, система, руководящий теоретический или политический принцип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Постиндустриальное общество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– согласно взглядам многих социологов и историков – новая стадия общественного развития, где ведущую роль приобретают сфера услуг, наука и образование, корпорации уступают главное место университетам, а бизнесмены – ученым и специалистам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Геополитическое положение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– особенности пространственно-географического положения государства (или блока государств) в его воздействии на локальные и глобальные международные процесс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Интеграция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– сближение государств, имеющих общие цели и принципы экономической, социальной политики, политические идеалы, на основе углубления разделения труда, формирования единых пространств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лобальные проблемы современ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5840" y="1600200"/>
            <a:ext cx="39290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гроза новой мировой вой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ологический кризис и его последст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ономический разрыв между развитыми и развивающимися стран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мографическая ситуация в ми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блема здравоохра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ждународный террор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т организованной преступ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лкоголизм и нарком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C:\Documents and Settings\я\Мои документы\КенджаеваЛП\Открытый урок 2012\глобус2.jpg"/>
          <p:cNvPicPr/>
          <p:nvPr/>
        </p:nvPicPr>
        <p:blipFill>
          <a:blip r:embed="rId1"/>
          <a:stretch/>
        </p:blipFill>
        <p:spPr>
          <a:xfrm>
            <a:off x="4357800" y="1643040"/>
            <a:ext cx="45720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Documents and Settings\я\Мои документы\КенджаеваЛП\Открытый урок 2012\карта росси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цесс формирования внешнеполитической доктр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714680"/>
            <a:ext cx="82296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этап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«прозападного» крена: декабрь 1991 – середина 1990-х. Задача: установление «союзнических» отношений с Запад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этап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учет национальных интересов: середина 1990-х – июнь 2000. Задача: корректировка стратегического курса страны на мировой арене, последовательная защита национальных интере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циональные интересы России в их внешнеполитическом преломле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еспечение надежной безопасности стран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здание благоприятных условий для устойчивого экономического рос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вышение жизненного уровня насел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крепление единства и целостности стран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крепление основ конституционного поряд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нсолидация обще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щита прав граждан и соотечественников за рубеж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балансированност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нешней полит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ширять в равной мере сотрудничество со странами Запада и Востока, Севера и Ю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стаивать последовательно национальные интере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одить дальнейшую интеграцию России в сообщество демократических государств, международные экономические, политические и гуманитарные структу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Биполярная» модель международных отношений в период «холодной» вой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международных отношений в годы «холодной» войны определялось отношениями между сверхдержавами. Их соперничество носило военно-политический характер. Это предопределяло цикличность послевоенной мировой политики. «Холодная» война была чередой обострений и смягчения международной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 февраля 1992 года состоялось подписание Декларации об окончании «холодной» вой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азовые принципы и установк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нцепции внешней политики Р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многополярной системы международных отнош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нцип международной безопасности – взаимный учет национальных интересов: центральное место в его реализации принадлежит О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иболее представительным и авторитетным международным органом являются ООН и ее специализированные учреждения: Генеральная Ассамблея ООН, Совет Безопасности ООН, Экономический и социальный Совет О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C:\Documents and Settings\я\Мои документы\КенджаеваЛП\Открытый урок 2012\250px-The_United_Nations_Building.jpg"/>
          <p:cNvPicPr/>
          <p:nvPr/>
        </p:nvPicPr>
        <p:blipFill>
          <a:blip r:embed="rId1"/>
          <a:stretch/>
        </p:blipFill>
        <p:spPr>
          <a:xfrm>
            <a:off x="4643280" y="1643040"/>
            <a:ext cx="39294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8:47:18Z</dcterms:created>
  <dc:creator>я</dc:creator>
  <dc:description/>
  <dc:language>en-US</dc:language>
  <cp:lastModifiedBy>Lenovo</cp:lastModifiedBy>
  <dcterms:modified xsi:type="dcterms:W3CDTF">2016-04-24T20:51:50Z</dcterms:modified>
  <cp:revision>78</cp:revision>
  <dc:subject/>
  <dc:title>Слайд 1</dc:title>
</cp:coreProperties>
</file>